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MERA.WAV" ContentType="audio/x-wav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FC84-2B84-4D85-A9DE-42961895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764-90C8-4323-BC39-864C8C57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2A7-1E78-43F4-B48F-04957FE16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03FB-4022-4560-81EE-28416651A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90F8-AB72-4440-A8AC-53615164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8385-303E-458B-9FD0-395AA44F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E602-5DA2-44E9-A755-CEBBA157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CC25-A8C9-48E1-8BBE-8E93A8B6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E9C5-E58F-4C6E-AF31-E5328557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E1A1-2C8E-4ED9-92C1-21D0E760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D0F0-32BD-471E-82FB-0FDBDF0D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5DA-C9D4-42D3-ABCC-D35EF0DB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2640-061A-4B6C-AEBB-DEACBBB9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D094-0BBB-4454-B677-9CDF6341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6F9E-F0D5-4B00-A7E9-D4B0FF5C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E0ED-40DE-48A6-B29A-B77ACD94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B33A-4118-4D4E-AD7A-9A6CF853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97AA-C2F1-47A5-8D26-F8014DCE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5D0-00EC-4D4C-8F10-7292A98A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745-2F1F-4FA4-87E3-EF2E1067A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D130-242B-458C-9285-235CFA5E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03C-82A1-44DC-BB82-821CFE1F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CC87-C1AB-40C9-BF2C-1E5D9199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52F6-E05B-42D5-9245-07F265C4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EFE3-67F6-48B4-8644-AD1C7BB23A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002f2e"/>
              </a:gs>
              <a:gs pos="50000">
                <a:srgbClr val="008080"/>
              </a:gs>
              <a:gs pos="100000">
                <a:srgbClr val="002f2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2f2e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50000">
                <a:srgbClr val="005250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005250"/>
              </a:gs>
              <a:gs pos="50000">
                <a:srgbClr val="008080"/>
              </a:gs>
              <a:gs pos="100000">
                <a:srgbClr val="0052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B2A2-0CF0-4410-BD0D-8DC4340ECB19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FARMAKOLOGIJA KARDIOVASKULARNOG SUSTAV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37720" y="33523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man Old Style"/>
              </a:rPr>
              <a:t>Prim. mr. sc. Josip Čulig, dr. m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733920" y="4572000"/>
            <a:ext cx="1600200" cy="93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2DBF-85F1-46EB-A464-FB7B63EE2B3F}" type="slidenum">
              <a:t>1</a:t>
            </a:fld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POREMEĆAJI RITMA uzrokuju smanjenje udarnog volumena srca</a:t>
            </a:r>
            <a:endParaRPr b="0" lang="en-US" sz="32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radiaritm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Tahiaritmij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Mehanizmi antiaritmičkog učin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lokada Na kan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lokada Ca kana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Utjecaj na K kan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lokad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recept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0DA-37E0-48B9-8333-B19E892243A9}" type="slidenum">
              <a:t>10</a:t>
            </a:fld>
          </a:p>
        </p:txBody>
      </p:sp>
    </p:spTree>
  </p:cSld>
  <p:transition>
    <p:strips dir="l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Klasifikacija antiaritmika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171880" y="1447920"/>
          <a:ext cx="4493880" cy="47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1880" y="1447920"/>
                    <a:ext cx="4493880" cy="47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7162920" y="1523880"/>
            <a:ext cx="0" cy="4648320"/>
          </a:xfrm>
          <a:prstGeom prst="line">
            <a:avLst/>
          </a:prstGeom>
          <a:ln w="9360">
            <a:solidFill>
              <a:srgbClr val="002f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695A-40CF-4E60-8F7D-312441F3C967}" type="slidenum">
              <a:t>11</a:t>
            </a:fld>
          </a:p>
        </p:txBody>
      </p:sp>
    </p:spTree>
  </p:cSld>
  <p:transition>
    <p:cover dir="rd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ANGINA PEKTORIS (stenokardija)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je sindrom boli kao posljedice ishemije miokard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UZROK: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najčešće ateroskleroz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koronarnih krvnih ži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2666880"/>
            <a:ext cx="457200" cy="15264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4267080"/>
            <a:ext cx="457200" cy="152640"/>
          </a:xfrm>
          <a:custGeom>
            <a:avLst/>
            <a:gdLst>
              <a:gd name="textAreaLeft" fmla="*/ 71280 w 457200"/>
              <a:gd name="textAreaRight" fmla="*/ 400320 w 457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186F-4A79-4DBF-B881-CC47E4DB343F}" type="slidenum">
              <a:t>12</a:t>
            </a:fld>
          </a:p>
        </p:txBody>
      </p: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NITRATI - gliceriltrinitrat,</a:t>
            </a:r>
            <a:br>
              <a:rPr sz="4000"/>
            </a:b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	</a:t>
            </a: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izosorbitinitrat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Oslobađa NO (dušični monoksid) koji u glatkim mišićima djeluje dilatacijs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timulira G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astaje cGMP koji uzrokuje dilataciju glatkih mišić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0120" y="3505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4495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AB5-F93E-4C44-9A3E-2FBA7E0CF916}" type="slidenum">
              <a:t>13</a:t>
            </a:fld>
          </a:p>
        </p:txBody>
      </p:sp>
    </p:spTree>
  </p:cSld>
  <p:transition>
    <p:randomBar dir="ver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BLOKATORI - koče refleksnu aktivaciju simpatikus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320004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</a:t>
            </a: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smanjuju frekvenciju srca, smanjuju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kontraktilnost         smanjuju potrebu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man Old Style"/>
              </a:rPr>
              <a:t>miokarda za kisikom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34290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39625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3D9-CD44-4C84-9F71-0E64D7D5918F}" type="slidenum">
              <a:t>14</a:t>
            </a:fld>
          </a:p>
        </p:txBody>
      </p:sp>
    </p:spTree>
  </p:cSld>
  <p:transition>
    <p:dissolv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952880" y="3352680"/>
            <a:ext cx="1828800" cy="1828800"/>
          </a:xfrm>
          <a:prstGeom prst="rect">
            <a:avLst/>
          </a:prstGeom>
          <a:ln w="9360">
            <a:solidFill>
              <a:srgbClr val="66ffcc"/>
            </a:solidFill>
            <a:miter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cc"/>
                </a:solidFill>
                <a:latin typeface="Bookman Old Style"/>
              </a:rPr>
              <a:t>BLOKATORI Ca KANALA</a:t>
            </a:r>
            <a:endParaRPr b="0" lang="en-US" sz="4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096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manjuju periferni otpor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manjuju potrebu miokard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za kisik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Verapam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Diltiaz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Nifedip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10280" y="2362320"/>
            <a:ext cx="381240" cy="152280"/>
          </a:xfrm>
          <a:custGeom>
            <a:avLst/>
            <a:gdLst>
              <a:gd name="textAreaLeft" fmla="*/ 59400 w 381240"/>
              <a:gd name="textAreaRight" fmla="*/ 333720 w 38124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10A-426C-4B96-A054-8650D468BE0C}" type="slidenum">
              <a:t>15</a:t>
            </a:fld>
          </a:p>
        </p:txBody>
      </p:sp>
    </p:spTree>
  </p:cSld>
  <p:transition>
    <p:strips dir="l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6ffcc"/>
                </a:solidFill>
                <a:latin typeface="Bookman Old Style"/>
              </a:rPr>
              <a:t>POVIŠENI KRVNI TLAK - povećan periferni otpor, povećan minutni volumen</a:t>
            </a:r>
            <a:endParaRPr b="0" lang="en-US" sz="30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DIURETICI -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manjuju volumen tekućine u krvoto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SIMPATOLITICI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smanjuju vazokonstriktorni tonus simpatikusa, smanjuju minutni volumen s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VAZODILATATORI -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dilatiraju glatke mišiće krvnih ži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BLOKATORI RENIN - ANGIOTENZINSKOG SUSTAVA -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lokiraju konvertirajući enzim angiotenzina, blokiraju angiotenzinske recepto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0D1-2348-4BE4-8B9A-36A74655DA53}" type="slidenum">
              <a:t>16</a:t>
            </a:fld>
          </a:p>
        </p:txBody>
      </p:sp>
    </p:spTree>
  </p:cSld>
  <p:transition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Hemodinamski učinci simpatolitika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533520" y="1523880"/>
          <a:ext cx="7602480" cy="505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7602480" cy="50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8153280" y="167652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254-C635-43B4-9DAF-BF30016428CA}" type="slidenum">
              <a:t>17</a:t>
            </a:fld>
          </a:p>
        </p:txBody>
      </p:sp>
    </p:spTree>
  </p:cSld>
  <p:transition>
    <p:randomBar dir="vert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ATEROSKLEROTSKI PLAKOVI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u stijenci krvnih žila sastoje se od lip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HMG-CaA reduktaza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 regulira količinu kolester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cc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STATINI 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blokiraju reduktazu u jetr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Bookman Old Style"/>
              </a:rPr>
              <a:t>lovastatin, simvastatin, provastatin, atorvastat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619A-6E61-4C8C-A150-2F49BF63E04F}" type="slidenum">
              <a:t>18</a:t>
            </a:fld>
          </a:p>
        </p:txBody>
      </p:sp>
    </p:spTree>
  </p:cSld>
  <p:transition>
    <p:pull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KARDIOVASKULARNE BOLESTI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ookman Old Style"/>
              </a:rPr>
              <a:t>1. Uzrok mortalitet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3CB-A1EC-44F8-B5B5-2FAD187C791F}" type="slidenum">
              <a:t>2</a:t>
            </a:fld>
          </a:p>
        </p:txBody>
      </p:sp>
    </p:spTree>
  </p:cSld>
  <p:transition>
    <p:blinds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Rizični faktori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11280" y="1905120"/>
          <a:ext cx="7762680" cy="470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905120"/>
                    <a:ext cx="776268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5800" y="205740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1880" y="205740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2057400"/>
            <a:ext cx="0" cy="3962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15000" y="2057400"/>
            <a:ext cx="0" cy="403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3F34-9E51-4491-9847-F08862DFE7E0}" type="slidenum">
              <a:t>3</a:t>
            </a:fld>
          </a:p>
        </p:txBody>
      </p:sp>
    </p:spTree>
  </p:cSld>
  <p:transition>
    <p:checker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04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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KARDIOTONICI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(inotropni lijekovi)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ardioaktivni glikozidi, inhibitori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fosfodiestera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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NTIARITMICI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blokatori Na kanala,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lokatori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receptora, blokatori C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kana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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IJEKOVI ZA ANGINU PEKTOR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itrati, blokatori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receptora, blokator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Ca kana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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ANTIHIPERTENZIVI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diuretici, simpatolitici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vazodilatatori, blokatori renin-angiotenzinsko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susta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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HIPOLIPEMICI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- inhibitori HMG-Co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reduktaze, stimulatori lipoprotein lipaze, niac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D98-D4FF-4B5C-B579-F6F11A56D070}" type="slidenum">
              <a:t>4</a:t>
            </a:fld>
          </a:p>
        </p:txBody>
      </p:sp>
    </p:spTree>
  </p:cSld>
  <p:transition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Bookman Old Style"/>
              </a:rPr>
              <a:t>Ca ++</a:t>
            </a:r>
            <a:r>
              <a:rPr b="0" lang="en-US" sz="4400" spc="-1" strike="noStrike">
                <a:solidFill>
                  <a:srgbClr val="66ffcc"/>
                </a:solidFill>
                <a:latin typeface="Bookman Old Style"/>
              </a:rPr>
              <a:t> </a:t>
            </a:r>
            <a:r>
              <a:rPr b="1" lang="en-US" sz="3600" spc="-1" strike="noStrike">
                <a:solidFill>
                  <a:srgbClr val="ffcc00"/>
                </a:solidFill>
                <a:latin typeface="Bookman Old Style"/>
              </a:rPr>
              <a:t>- ima središnju ulogu u </a:t>
            </a:r>
            <a:br>
              <a:rPr sz="3600"/>
            </a:br>
            <a:r>
              <a:rPr b="1" lang="en-US" sz="3600" spc="-1" strike="noStrike">
                <a:solidFill>
                  <a:srgbClr val="ffcc00"/>
                </a:solidFill>
                <a:latin typeface="Bookman Old Style"/>
              </a:rPr>
              <a:t>           procesu kontrakcije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A) Povećava koncentraciju 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B) Povećava afinitet kontraktilni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roteina prema 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C) Tvari koje djeluju na ob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mehanizm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C109-82E3-403F-86EF-EA88B505BF63}" type="slidenum">
              <a:t>5</a:t>
            </a:fld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INHIBITORI  FOSFODIESTERAZ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sprečavaju razgradnju cAM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ovećavaju koncentraciju 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AMRIN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MILRIN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cc"/>
                </a:solidFill>
                <a:latin typeface="Bookman Old Style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kratkotrajna parentaln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57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Bookman Old Style"/>
              </a:rPr>
              <a:t>primje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32767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743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5638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DC64-3241-4004-82AD-DAAD8C33D321}" type="slidenum">
              <a:t>6</a:t>
            </a:fld>
          </a:p>
        </p:txBody>
      </p:sp>
    </p:spTree>
  </p:cSld>
  <p:transition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SIMPATOMIMETICI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agonisti 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BUTA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agonisti 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ALBUTAM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paminomimetici -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PAM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cij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receptora u srcu dovodi d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višenja cAMP-a i pove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ć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ja koncentracije 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94E8-62DC-4E74-A405-D9B309BBA5A4}" type="slidenum">
              <a:t>7</a:t>
            </a:fld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cc"/>
                </a:solidFill>
                <a:latin typeface="Bookman Old Style"/>
              </a:rPr>
              <a:t>DOPAMIN</a:t>
            </a:r>
            <a:endParaRPr b="0" lang="en-US" sz="44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Povećava glomerularnu filtraciju i natriurezu - D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Vazodilatacija - DA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Blokira oslobađanje NA - DA 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Stimulira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Bookman Old Style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receptore na sr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cc"/>
                </a:solidFill>
                <a:latin typeface="Bookman Old Style"/>
              </a:rPr>
              <a:t>   </a:t>
            </a:r>
            <a:r>
              <a:rPr b="1" lang="en-US" sz="2800" spc="-1" strike="noStrike" u="sng">
                <a:solidFill>
                  <a:srgbClr val="66ffcc"/>
                </a:solidFill>
                <a:uFillTx/>
                <a:latin typeface="Bookman Old Style"/>
              </a:rPr>
              <a:t>DOZA: 2 - 4 mikrograma/kg/m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94D7-784F-48B3-B421-4D83C6B7EE28}" type="slidenum">
              <a:t>8</a:t>
            </a:fld>
          </a:p>
        </p:txBody>
      </p:sp>
    </p:spTree>
  </p:cSld>
  <p:transition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e"/>
            </a:gs>
            <a:gs pos="50000">
              <a:srgbClr val="008080"/>
            </a:gs>
            <a:gs pos="100000">
              <a:srgbClr val="002f2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cc"/>
                </a:solidFill>
                <a:latin typeface="Bookman Old Style"/>
              </a:rPr>
              <a:t>KARDIOTONICI - digoksin, medigoksin</a:t>
            </a:r>
            <a:endParaRPr b="0" lang="en-US" sz="3600" spc="-1" strike="noStrike">
              <a:solidFill>
                <a:srgbClr val="66ff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iljka </a:t>
            </a:r>
            <a:r>
              <a:rPr b="0" lang="en-US" sz="2400" spc="-1" strike="noStrike">
                <a:solidFill>
                  <a:srgbClr val="66ffcc"/>
                </a:solidFill>
                <a:latin typeface="Bookman Old Style"/>
              </a:rPr>
              <a:t>Digitalis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1785. g. W. With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Blokiraju 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/K</a:t>
            </a:r>
            <a:r>
              <a:rPr b="0" lang="en-US" sz="2400" spc="-1" strike="noStrike" baseline="30000">
                <a:solidFill>
                  <a:srgbClr val="ffffff"/>
                </a:solidFill>
                <a:latin typeface="Bookman Old Style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 - ATP-az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ovećavaju unutarstaničnu koncentraciju Ca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cc"/>
                </a:solidFill>
                <a:latin typeface="Bookman Old Style"/>
              </a:rPr>
              <a:t>KARDIOVASKULARNI UČIN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ozitivno inotropno - povećavaju snag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pozitivno batmotropno - povećavaju ekscitabiln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egativno dromotropno - smanjuju brzinu provođenja podraža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negativno kronotropno - smanjuju frekvenciju sr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BFD5-CBA9-479B-8535-D1379FE3F21A}" type="slidenum">
              <a:t>9</a:t>
            </a:fld>
          </a:p>
        </p:txBody>
      </p:sp>
    </p:spTree>
  </p:cSld>
  <p:transition>
    <p:strips dir="l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3:27:54Z</dcterms:created>
  <dc:creator>Jelena</dc:creator>
  <dc:description/>
  <dc:language>en-US</dc:language>
  <cp:lastModifiedBy>KERAMEIKOS d.o.o.</cp:lastModifiedBy>
  <dcterms:modified xsi:type="dcterms:W3CDTF">2003-01-28T12:24:17Z</dcterms:modified>
  <cp:revision>27</cp:revision>
  <dc:subject/>
  <dc:title>FARMAKOLOGIJA KARDIOVASKULARNOG SUSTAVA</dc:title>
</cp:coreProperties>
</file>